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577-6764-4363-9E93-311BBA03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86E-8761-42FB-B068-1D5C27AA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1AD-0E18-48FB-88CF-A0C835C1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E18-9987-45E7-B5C5-6F0818FE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719-8C6D-497E-8E49-2622AF9A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99A2-5CD1-4D3A-B742-0D01ADB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510-6080-4390-B47A-6FBE5A0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812-3E8C-4CC1-8CC0-AE7072A4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014-844C-4F3B-9545-46CCDC6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58C1-45B4-46E1-B6B3-3B9D67E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8385-4ABF-4FF7-BF2E-431C7AB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96B-B9A8-4634-AC7F-200285D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4312-B42D-4EBA-9D2A-532F99F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ED12-B829-4DDC-8828-62EF9E0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46E2-6B1F-4536-B1E2-F84C1D2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563B-D8B5-4907-9C99-C12EA0CE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0E57-5FBB-4543-8CC8-73DD4EF1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1A2-CE3E-4856-A4EF-DDE1A23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01A-338F-41D9-A9D3-2EE16613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AF9-D23A-4AC1-9479-D39C3E2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41C-701B-4F32-8D27-D10AC014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30B-5D37-4A5E-B19A-EABEB9B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515-F4F0-4371-ABC0-550784D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EED-613F-4638-8E46-DD595D8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838B-3591-407C-BD2D-D04A07F9F9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82A0-2591-45EE-A24A-61EEC2827C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97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Ma famill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r>
              <a:rPr b="0" lang="en-GB" sz="4800" spc="-1" strike="noStrike">
                <a:solidFill>
                  <a:srgbClr val="ffffcc"/>
                </a:solidFill>
                <a:latin typeface="Matura MT Script Capitals"/>
              </a:rPr>
              <a:t>Gomez, c’est mon p</a:t>
            </a: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Morticia, c’est ma m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Wednesday, c’est ma soeur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Pugsley, c’est mon frèr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famille_addams"/>
          <p:cNvPicPr/>
          <p:nvPr/>
        </p:nvPicPr>
        <p:blipFill>
          <a:blip r:embed="rId1"/>
          <a:stretch/>
        </p:blipFill>
        <p:spPr>
          <a:xfrm>
            <a:off x="3059280" y="0"/>
            <a:ext cx="3714480" cy="5133960"/>
          </a:xfrm>
          <a:prstGeom prst="rect">
            <a:avLst/>
          </a:prstGeom>
          <a:ln w="0">
            <a:noFill/>
          </a:ln>
        </p:spPr>
      </p:pic>
      <p:pic>
        <p:nvPicPr>
          <p:cNvPr id="386" name="The Addams Family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491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ur commencer…qui est l’int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fr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soeu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s parent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Oval 27"/>
          <p:cNvSpPr/>
          <p:nvPr/>
        </p:nvSpPr>
        <p:spPr>
          <a:xfrm>
            <a:off x="6012000" y="1628640"/>
            <a:ext cx="2808000" cy="10083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Oval 28"/>
          <p:cNvSpPr/>
          <p:nvPr/>
        </p:nvSpPr>
        <p:spPr>
          <a:xfrm>
            <a:off x="395280" y="3068640"/>
            <a:ext cx="2808360" cy="1440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Oval 29"/>
          <p:cNvSpPr/>
          <p:nvPr/>
        </p:nvSpPr>
        <p:spPr>
          <a:xfrm>
            <a:off x="6012000" y="3141720"/>
            <a:ext cx="2808000" cy="1008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Oval 30"/>
          <p:cNvSpPr/>
          <p:nvPr/>
        </p:nvSpPr>
        <p:spPr>
          <a:xfrm>
            <a:off x="6012000" y="4724280"/>
            <a:ext cx="2808000" cy="13701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objectif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 p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Gom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 45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s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n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mamuchka"/>
          <p:cNvPicPr/>
          <p:nvPr/>
        </p:nvPicPr>
        <p:blipFill>
          <a:blip r:embed="rId1"/>
          <a:stretch/>
        </p:blipFill>
        <p:spPr>
          <a:xfrm>
            <a:off x="5651640" y="1700280"/>
            <a:ext cx="3273120" cy="42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e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Mor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a 44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ciné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repos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5" descr="morticia"/>
          <p:cNvPicPr/>
          <p:nvPr/>
        </p:nvPicPr>
        <p:blipFill>
          <a:blip r:embed="rId1"/>
          <a:stretch/>
        </p:blipFill>
        <p:spPr>
          <a:xfrm>
            <a:off x="5651640" y="1989000"/>
            <a:ext cx="3085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u as un f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afpugs1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8"/>
          <p:cNvSpPr/>
          <p:nvPr/>
        </p:nvSpPr>
        <p:spPr>
          <a:xfrm>
            <a:off x="395280" y="148428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’ai u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s’appelle Pugs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2 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bite ave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s parents, à Spooksvi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la le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parce que c’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intéress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s’appelle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______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habite 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ime 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Une arbre généalog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8" descr="afgomez3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anjelica00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affest2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afpugs1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9" descr="afwed6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17" name="Line 20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23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Line 24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Line 25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Oval 26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7"/>
          <p:cNvSpPr/>
          <p:nvPr/>
        </p:nvSpPr>
        <p:spPr>
          <a:xfrm>
            <a:off x="250920" y="4005360"/>
            <a:ext cx="2592360" cy="2303280"/>
          </a:xfrm>
          <a:prstGeom prst="wedgeRoundRectCallout">
            <a:avLst>
              <a:gd name="adj1" fmla="val 60412"/>
              <a:gd name="adj2" fmla="val -7203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 m’appelle Wednesday. J’ai 13 ans et voici ma famill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8"/>
          <p:cNvSpPr/>
          <p:nvPr/>
        </p:nvSpPr>
        <p:spPr>
          <a:xfrm>
            <a:off x="5580000" y="1197000"/>
            <a:ext cx="3095640" cy="86364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’est ma grand-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appelle Mam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family tree including the maximum description of each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ne ch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scollett</cp:lastModifiedBy>
  <dcterms:modified xsi:type="dcterms:W3CDTF">2010-04-28T01:39:26Z</dcterms:modified>
  <cp:revision>4</cp:revision>
  <dc:subject/>
  <dc:title>Ma famille  Gomez c’est mon père Morticia c’est ma mère Friday c’est ma soeur Pugsley c’est mon frère  </dc:title>
</cp:coreProperties>
</file>